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2B-463A-49A7-BAB1-624ADD8B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A7C-4965-4EF9-A070-04E4FD7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FE1-6480-4856-A823-196E4646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DF5-7EBB-44B8-95CD-08F4FE9F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ED0-647B-4CC6-BEAC-01195FB8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9216-AE81-441F-8DBE-DD1CF61F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837F-AAB3-405A-A0AA-B727C849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8101-AF35-440B-9427-6AC41FC6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368-7C64-49A7-8B56-AE34690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A563-07BF-49C1-9DCD-351EF6E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B80B-3528-4AAC-9388-41731428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58E-9822-4AB3-A9DD-CFEDC98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8E64-1711-45A6-8AAB-65DC651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BAC1-D517-41D5-B16B-1323E524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9492-663C-4939-96C6-6F039DF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A155-256A-47C9-AD8F-FBCD1BD4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E69-3423-4D15-AE48-B4B58120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E5A-0738-4DC3-97D4-E54CDCA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E35-807E-4681-AE5F-13F69D43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0D5-BFFB-4232-A355-F4EA0FA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76F-3C78-4346-A522-2E0133EE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9EF-2969-4034-BD2D-DE7D708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2F1-1063-47B3-83DD-0986FA5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02F-C99A-4FA3-894A-B31EBCD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3EC-D929-4868-983B-E9F3723794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F5C-20F7-448C-87CF-D7D7FC1228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rm-Up Sent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ckie robinson the first black major league baseball player played his first game with the brooklyn dodgers in 194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be Ruth held the American record for home runs until the 1970s he still holds the record for strikeo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Journal #1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be a child throwing a tantru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rm-Up Sent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ska, the largest state with the fewest people has one third of it’s land inside the Artic Circ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morist, Mark Twain (1835-1910) wore white linen suits in summer and in winter, because they made him feel “clean in a dirty world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Journal #2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 a step-by-step manual on how to fall asleep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riday Warm-up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ynonyms are words that mean the same thing, lik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ool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chill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 Brainstorm eight synonyms for the verb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wal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  Write a sentence for each synony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1:45Z</dcterms:created>
  <dc:creator>tpagel</dc:creator>
  <dc:description/>
  <dc:language>en-US</dc:language>
  <cp:lastModifiedBy>tpagel</cp:lastModifiedBy>
  <dcterms:modified xsi:type="dcterms:W3CDTF">2010-07-25T21:48:27Z</dcterms:modified>
  <cp:revision>2</cp:revision>
  <dc:subject/>
  <dc:title>Warm-Up Sentences</dc:title>
</cp:coreProperties>
</file>